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FAF8-19E9-4076-BA74-FB9D1292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58B3-B973-4A34-8DDC-796B2145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FCA3-F44B-4F7C-975B-710439D4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CF8B-6A4E-48D7-907F-3DA35FF1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4523-1759-41B0-81EE-9D64BE27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C559-C589-4D07-8F2F-F364D71C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29D5-F64D-4560-9D9A-5C50B4E3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3912-A054-4A13-9398-6ED9B0EA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ACE0-3D85-48F2-8DC1-0A671CCD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930C-3657-453F-85A5-3A73D106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0DBD-BC50-4741-8108-8F5A9A60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9095-BC6A-4929-95B0-AE41F173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6606-A201-4AED-BE4B-B967CE81E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62720" y="304920"/>
            <a:ext cx="3581280" cy="9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معَ مَلاكِ الله جُندُ     لِرُعاةٍ قد ظَهَر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حَولَهُ الأملاكُ تَشدو   بخلاصٍ للبشَ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في العُلى لله مَجدُ     وعلى الأَرضِ السّل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ولَهُ شُكرٌ وحَمدُ       وسُرورٌ للأن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Image04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4552750swRhDgjhNH_ph" descr=""/>
          <p:cNvPicPr/>
          <p:nvPr/>
        </p:nvPicPr>
        <p:blipFill>
          <a:blip r:embed="rId1"/>
          <a:stretch/>
        </p:blipFill>
        <p:spPr>
          <a:xfrm>
            <a:off x="0" y="-4680"/>
            <a:ext cx="5334120" cy="6862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86400" y="304920"/>
            <a:ext cx="3657600" cy="10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سمعوا لحنَ الثّناءِ    من جُنودِ في عُلا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ِقَياثيرِ السماءِ        سَبَّحوا الربَّ الإ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ُلِدَ اليومَ المسيحُ     مضجَعا في المِذود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ُلكُه مُلكٌ صَحيحُ     دائمُ للأبد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ARPO013" descr=""/>
          <p:cNvPicPr/>
          <p:nvPr/>
        </p:nvPicPr>
        <p:blipFill>
          <a:blip r:embed="rId1"/>
          <a:stretch/>
        </p:blipFill>
        <p:spPr>
          <a:xfrm>
            <a:off x="0" y="0"/>
            <a:ext cx="5394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4120" y="228600"/>
            <a:ext cx="3809880" cy="83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تاركاً مجدَ عُلاهُ      وتَرانيمَ الصَّف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أشْرَقَت شمسُ سَناهُ  بِجَناحَيها الشِّف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فهَلُّمي يا برايا        وارفعي صوتَ المَديح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هُوَذا الماحي الخطايا ربُّنا الفادي المَسيح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9:24:53Z</dcterms:created>
  <dc:creator>SUZANNE.MD</dc:creator>
  <dc:description/>
  <dc:language>en-US</dc:language>
  <cp:lastModifiedBy>USER</cp:lastModifiedBy>
  <dcterms:modified xsi:type="dcterms:W3CDTF">2002-12-23T19:57:54Z</dcterms:modified>
  <cp:revision>3</cp:revision>
  <dc:subject/>
  <dc:title>PowerPoint Presentation</dc:title>
</cp:coreProperties>
</file>